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55AC-66B8-4880-8930-EC2942663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23FC-0EFA-4EAA-9A40-8DCA1F53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0C4C-5887-483B-9BD8-F4AF0CCA2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DDF2-EC04-4480-A60F-328CA25AC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0AEA-A470-441F-AD73-891FA714D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EB64-5EA3-4C41-88A8-5974201E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32A93-65D7-4EE6-9B37-04910EDE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CCD6-202A-49D8-B0AB-05FF0B4F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C808-9FA1-4E96-B51D-E809EE39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6A216-7E69-4597-91C1-09C972D0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48BE-C5FF-4D23-91E7-688CAA77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8AAD1-DFED-4319-9EA3-C22D7CE2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6933-085E-4859-B4A2-633634BC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7CA2-BB46-47DE-A12E-A95E0AA0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BD0D-CD50-4C43-BDBD-C9B41571B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3E2D-4D49-47F6-88BD-E9DA0CB97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26B2C-C0C1-4198-817C-D3C8A1F0C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9570F-E091-4B66-8560-C39A7BCE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491DB-6075-456B-AA42-D92F089F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3D041-CA3F-4CC8-A722-D98C3292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1CDED-E283-49FC-BFCD-945CB3C7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C064C-A4D0-45F5-BCA4-736203C0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69CD8-E8DB-4891-BE4B-597D35AC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F77C0-91A2-401B-9091-32B69BB2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B2E94-94E3-42CF-9AD0-DC85C16A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C8895-A534-4CAE-8816-11DD4619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89E64-6C63-436E-9470-E431FE7F7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DCE7F-D941-4B99-AB11-95F9F38C5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10C3-1E21-40F3-956C-CE4A333C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A1BF-EEE8-4D6F-BFE9-301C4420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334F-E47B-4983-93BD-B7323C10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418F-C816-42CF-B63E-EE5FBD0F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E62E-2B4D-4283-8658-4EB94C44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D27D-8F86-4B87-8231-32228278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1854-61D5-49A5-AE85-2DF2D1CD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16E7-1B12-498E-A58C-2D70DE83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F3EA-99CE-4402-830D-898C8B869C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5B11-5E3A-4D4C-9797-323B876A69EC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8E7F-031A-4AC4-9A00-4EAD8A8A1964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07880" y="65088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Calibri"/>
              </a:rPr>
              <a:t>Odvajanje in čiščenje odpadne vode na območju vodonosnika Ljubljanskega polja – veliki projek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31560" y="13917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Odbor za spremljanje se seznanja, da se na podlagi ugotovitev predhodnega strokovnega pregleda projektov v pripravi s strani evropske pobude JASPERS projekt »Odvajanje in čiščenje odpadne vode na območju vodonosnika Ljubljanskega polja - Nadgradnja sistema odvajanja  komunalne odpadne vode v občinah Medvode in Vodice ter izgradnja povezovalnega kanala C0 v MOL« in projekt »Odvajanje in čiščenje odpadne vode na območju vodonosnika Ljubljanskega polja - izgradnja III. faze CČN Ljubljana« združita v en veliki projekt z naslovom »Odvajanje in čiščenje odpadne vode na območju vodonosnika Ljubljanskega polja«, ki se vključi v indikativni seznam velikih projektov Operativnega programa za izvajanje Evropske kohezijske politike v obdobju 2014 -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log sklep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Janika Gregorič Zečevič</cp:lastModifiedBy>
  <dcterms:modified xsi:type="dcterms:W3CDTF">2015-03-26T08:16:50Z</dcterms:modified>
  <cp:revision>24</cp:revision>
  <dc:subject/>
  <dc:title>PowerPoint Presentation</dc:title>
</cp:coreProperties>
</file>